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BA24-7D3C-4DC2-8818-EF6724596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C8C8-91CC-48ED-B276-7932EBEE623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06E1-D8F4-4CFA-8F74-EAB7E95FD0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118D-90B8-4278-9FE9-D7D3027ADA1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6A6C-D194-4725-947D-297128F258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5485-E8F4-4AFA-8508-780529DBC90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97E8-C582-47D5-A2D3-C031CCFE4E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8776-E76F-4751-B6FB-F0CA0EC190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60F9-3EF3-4DE0-9253-76301A1D913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D968-72A7-451C-A5EC-6551E39DE8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3580-4131-4B83-B450-AA4A38F3B3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0004-13F4-46AB-A22A-0BC92E5A5E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C54D-9361-4D7A-9699-F39FE53FF92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4AA3-5FC5-4B95-925A-DB9FF7B75DE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8C35-EA68-4871-BF16-4E20069C649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DDCA-F718-4390-A0F8-1E718E84C5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2086-9BBB-4C04-BA5F-3E338FB5CD2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AD53-9397-4D69-871D-252B798D4E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29BD-4647-4950-B6F1-43DFD27534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22B8-031D-4057-830F-ED0939E200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D871-4146-4C7F-A2B3-7F6532FCA6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312-A316-4740-A940-8275BCE3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DE58-2C68-4E81-A63A-360BF6B0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E359-0606-4144-A3FF-EE647DD7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759F-379F-450A-B4EB-A1A7D07D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C57A-46CF-41CF-B6EC-59D4F9F4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AE0F-3BBE-4402-8670-AE8E5CA6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07BA-F8FC-4E33-AF32-59BEFE2A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30B6-0343-40EB-8573-7995578A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D9C4-8609-4583-95DE-5D1E085C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9DBB-38AD-46D9-878E-499DB217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A2E8-0087-47D4-9765-F9A42DBF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4AF-742D-4B8F-958B-571229F3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EB0C-B597-4CA8-804C-EE3C5BF7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DBD4-F188-453F-B185-7CFA2077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B6DF-158F-4263-A9D7-09F88A05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6F6E-18AB-4D3E-A3C4-346FA05C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A7FA-1963-4BE8-AD5B-B3D7211D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666-DE62-4D3A-B1A3-E4FB5EBA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743F-F092-4247-B0FD-BC9C65A8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4F4-391A-463D-9F92-D33AD9A0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893C-7EB6-46AD-97C1-23D745BE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64CD-19F5-4A42-9624-2071096B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D31-56DE-46CD-B7E7-51653D73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0604-AFA1-4969-B065-D53AD02F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4B52-C060-4297-9758-12B2DD0056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6B2F-18DD-4681-A388-D8843E01F7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riedigerfarms.com/wholesale/ipm/ladybugmd.jpg&amp;imgrefurl=http://www.driedigerfarms.com/wholesale/ipm/&amp;h=253&amp;w=300&amp;sz=26&amp;tbnid=EyfZQcWjuM8J:&amp;tbnh=93&amp;tbnw=110&amp;start=36&amp;prev=/images%3Fq%3Dintegrated%2Bpest%2Bmanagement%26start%3D20%26hl%3Den%26lr%3D%26sa%3DN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hapter 12 – Agriculture and the Environmen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69880"/>
            <a:ext cx="6400800" cy="32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ey Concept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ance of soi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stainable farming practi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ertifi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gisl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actory Farm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P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ms at control not eli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a combo of methods incl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logical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insectic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crop planting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M Crop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erhybri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rminator Ge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 transfer (transgenic crop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sertific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Some Causes of Desert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or farm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vergraz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emical poisoning of the so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Kesterson Wildlife Refug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048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ificial wetla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rly 1980s received agricultural drainage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 supposed to drain to sea, didn’t finish it (oops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nium accumulated in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-irrigating to leach out salt buildup  caused the probl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5" descr="image of location map shows kesterson national wildlife refuge, cretaceous and tertiary sedimentary basins, and locations of onshore oil and gas fields, highlighting the Cheney Ranch 1 and Magnet Fearon 2 oil wells"/>
          <p:cNvPicPr/>
          <p:nvPr/>
        </p:nvPicPr>
        <p:blipFill>
          <a:blip r:embed="rId1"/>
          <a:stretch/>
        </p:blipFill>
        <p:spPr>
          <a:xfrm>
            <a:off x="3505320" y="1676520"/>
            <a:ext cx="4886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Desertification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Caus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iverting wa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utting tre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nging weather patterns/ Global climate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00"/>
                </a:solidFill>
                <a:latin typeface="Garamond"/>
              </a:rPr>
              <a:t>Desertification data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Who’s most immediately affect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70 percent of the world's drylands are degraded </a:t>
            </a:r>
            <a:br>
              <a:rPr sz="2400"/>
            </a:b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                                   </a:t>
            </a: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in the world are affected to some degree by desertification. </a:t>
            </a:r>
            <a:br>
              <a:rPr sz="2400"/>
            </a:b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Globally it is estimated that the annual income lost in the areas affected by desertification 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Map of Africa Indicating Desertification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00"/>
                </a:solidFill>
                <a:uFillTx/>
                <a:latin typeface="Garamond"/>
              </a:rPr>
              <a:t>Important Legis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Research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od Securities 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stainable Agriculture Research and Education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UNCCD: 199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nvention to Combat Des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0 nations ra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00 million dollars to fund projects to stop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Factory Farming: Increasing p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ibiotics are commonly used in animal pro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imals are bred to grow faster and to be more desirable for mark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 chickens with more breast me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nthetic hormones are approved for 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wth horm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lk production horm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Beef P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dlo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 corn instead of gra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ined in a small 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cal material accumul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ease spreads readi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micals used to control dise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il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Verdana"/>
              </a:rPr>
              <a:t>Tex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5" descr="soilparticles"/>
          <p:cNvPicPr/>
          <p:nvPr/>
        </p:nvPicPr>
        <p:blipFill>
          <a:blip r:embed="rId1"/>
          <a:stretch/>
        </p:blipFill>
        <p:spPr>
          <a:xfrm>
            <a:off x="2362320" y="380880"/>
            <a:ext cx="6172200" cy="62485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6171840" y="5181480"/>
            <a:ext cx="22860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Waste Production..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ter 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eatment requir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dor/airborne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te treatment regulations are more lax than for waste from peo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il Ero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9720" y="268560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- organic mater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erals (botto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- zone of lea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– high in leached minerals from abo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– original parent mater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112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5410080" y="1219320"/>
            <a:ext cx="3733920" cy="45972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IL STRUCTU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oals of sustainable farm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ustainable farming practices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he following reduce soil erosion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Contour plow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Terracing hill sid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Shelterbel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Low or No Till Plowing (wind and wa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rop Rotation (keeps nutrients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tating heavy feeders, mode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eeders with soil bui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ver Crop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t during fallow(off) seas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ep nitrates from leaching out of topso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keep soil orgs healthy and “fe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ents excess N from runoff into water supp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est Manage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oad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rrow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ed Pest Management (IP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ntegrated Pest Manage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ladybug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152280"/>
            <a:ext cx="1047600" cy="88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photo: Blackheaded fireworm larva"/>
          <p:cNvPicPr/>
          <p:nvPr/>
        </p:nvPicPr>
        <p:blipFill>
          <a:blip r:embed="rId3"/>
          <a:stretch/>
        </p:blipFill>
        <p:spPr>
          <a:xfrm>
            <a:off x="685800" y="1523880"/>
            <a:ext cx="1600200" cy="28861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8"/>
          <p:cNvSpPr/>
          <p:nvPr/>
        </p:nvSpPr>
        <p:spPr>
          <a:xfrm>
            <a:off x="762120" y="4952880"/>
            <a:ext cx="30477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anberry and damage: black headed firewor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sonal flooding to control 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0" descr="photo: Fireworm larvae damage"/>
          <p:cNvPicPr/>
          <p:nvPr/>
        </p:nvPicPr>
        <p:blipFill>
          <a:blip r:embed="rId4"/>
          <a:stretch/>
        </p:blipFill>
        <p:spPr>
          <a:xfrm>
            <a:off x="2590920" y="1523880"/>
            <a:ext cx="1447560" cy="292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a-cuc"/>
          <p:cNvPicPr/>
          <p:nvPr/>
        </p:nvPicPr>
        <p:blipFill>
          <a:blip r:embed="rId5"/>
          <a:stretch/>
        </p:blipFill>
        <p:spPr>
          <a:xfrm>
            <a:off x="4267080" y="1523880"/>
            <a:ext cx="1905120" cy="3048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thrips"/>
          <p:cNvPicPr/>
          <p:nvPr/>
        </p:nvPicPr>
        <p:blipFill>
          <a:blip r:embed="rId6"/>
          <a:stretch/>
        </p:blipFill>
        <p:spPr>
          <a:xfrm>
            <a:off x="6477120" y="1523880"/>
            <a:ext cx="1904760" cy="2971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6"/>
          <p:cNvSpPr/>
          <p:nvPr/>
        </p:nvSpPr>
        <p:spPr>
          <a:xfrm>
            <a:off x="4267080" y="4952880"/>
            <a:ext cx="40388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ft photo:  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edatory mite (IPM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ouring a thrips, an agicultural pest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ght photo:  the thrips by itself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8:42:30Z</dcterms:created>
  <dc:creator>tosborne</dc:creator>
  <dc:description/>
  <dc:language>en-US</dc:language>
  <cp:lastModifiedBy>infosys</cp:lastModifiedBy>
  <dcterms:modified xsi:type="dcterms:W3CDTF">2015-11-13T21:25:33Z</dcterms:modified>
  <cp:revision>40</cp:revision>
  <dc:subject/>
  <dc:title>Slide 1</dc:title>
</cp:coreProperties>
</file>